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3D7-8065-408B-ACED-5FA81B86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FF3-0E27-4741-BFEA-AD62F0CC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AD5-113B-43CF-AD18-2EB80414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42A-0B60-499F-A689-AE01F6BE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63E9-6373-47C8-9803-2A817084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F4B4-BC7A-4EAC-AA34-502F3E5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245A-4F2C-4001-BCEA-EEB4655F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5CE7-B2EC-4643-8294-44B6F25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9F86-DB48-48F7-A597-1379EDBC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C00-E37F-40B8-8DC3-2B07A31D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9BFB-FB9F-411B-9910-614BFEF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A04-9935-49A6-BD9F-E6E34357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E3AF-6534-461A-A14D-62C3E37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0A61-8D30-46EB-B997-7C4EE44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099D-FFCA-49F2-ACE2-CDA3EF62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377A-8DCE-408E-BFBD-048A95F5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022E-611A-4C58-AC40-0CF35AD7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9EEB-8D90-4054-B6FD-2DF0F43D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A24C-C2C7-4D07-8689-C077D780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6DB1-D62B-48E2-97EA-CE747143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7687-476A-4E5E-83F6-204E33D2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6D66-70BF-4899-A82B-D1420667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E3D-1F22-4D84-B34C-90D9BC9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8C72-B916-451A-84C1-7F25ABE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16C7-335A-4876-B58F-5F8660F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84B3-5571-4637-95F7-FF88BE2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EFA7-A1FA-4903-B254-010404E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93BE-EE27-4004-8449-CD2AE5ED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759D-F6BD-4B8B-8577-A93F6C67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B787-E26B-4EFD-B2FD-67675D57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C90E-4CCF-4A48-8D35-6DC724F1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F5C9-CE47-456F-BA4A-CD146D29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E68D-5898-4D03-A467-7704D0A7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BE4-10F6-4B69-B7F7-3152799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6FF6-21EB-48D3-8497-38B077E0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D8C2-128E-4AF2-869A-F672E02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329E0-DB7F-4CA8-8A0C-2F945302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E9D6-29DA-4B66-BF26-495335EA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D117-4EC6-4503-8DF2-774D48B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72B4-2220-409E-A6FA-30BCB04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A7B9-5E0E-43A9-8A0C-0BC63A7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85B7-5C82-4DDB-9A68-4D0F6071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7156-F56E-4281-93A9-F1DF540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E68-7790-446B-98E9-343E91B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D2F-091F-4BF2-BCD5-C92860F1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E78-1FC2-45D9-B0F4-65A7E7F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66F-69AF-468C-BDBD-8BE1A83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405-773A-4894-8CDE-7304C63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3E0D-E046-44B1-9401-50AADAAEB1D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ED52-8E35-4698-99D0-FAD74061B6A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A2BB-FBBE-4498-BF2C-29631312A0E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DE3C-DC9A-44B0-A990-2D33CD65649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Ol7lrNuOnk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 и транслација-анимација процес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ских задата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a транскрипције и 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2924280"/>
            <a:ext cx="8229600" cy="1296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fOl7lrNuO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 вежб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 задатака  3.12, 3.14 и 3.1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ирка решених задатака из генетике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 2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44:24Z</dcterms:created>
  <dc:creator>Olivera Milosevic-Djordjevic</dc:creator>
  <dc:description/>
  <dc:language>en-US</dc:language>
  <cp:lastModifiedBy>Olivera Milošević-Đorđević</cp:lastModifiedBy>
  <dcterms:modified xsi:type="dcterms:W3CDTF">2023-08-28T16:56:30Z</dcterms:modified>
  <cp:revision>136</cp:revision>
  <dc:subject/>
  <dc:title>Функција наследне основе  Репликација, транскрипција, транслација</dc:title>
</cp:coreProperties>
</file>